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0DDD-41AB-4EAC-98AB-309BE2A7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B74-6BBA-44B9-8B9E-FD7AC69E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2208-A4A2-4524-8647-466E3D62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FDA-F9B5-4D2F-ABEB-3DA6762F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136E-C035-4A46-BE8C-66AB5006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AC04-DE1C-44EB-B3F2-A95F7364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9DB2-5F66-4B0C-8E2E-11CE2E46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C646-C29D-4721-930F-B1135F7A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C784-EBC7-442C-8EB3-3E237BB5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F311-08A2-49F1-83EE-5DFABBA2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97BD-4AE0-47F4-B985-4BC54D05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878F-AE40-4034-A272-60293113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96C5-9733-43B3-8128-BFDFE694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0A88-4158-4332-90BB-5FCCEDC7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7B44-7286-45C0-8572-2EFB619F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E09D-0BEA-4CAE-AC6C-B4392C0D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D638-5F79-4818-AEE9-0DE610DD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0F3-23D4-4A71-9E90-EA39E8FB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1CA-C28D-4F74-A452-AD6888A8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5FE-7E92-4832-B6C5-ACC1EFBC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B939-0A37-4BA5-9C08-A92ACC0C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5274-D8E3-4F65-96B6-FC690284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954D-778D-4915-8B0C-DC3233E1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6237-2419-44B0-86BF-E7AE827A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A510-3435-4CEB-8E4B-E51C27CA8C8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2C25-6DF2-400F-BB13-C1626D96356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Травмы в походе - общие принципы оказания помощ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432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Добрушина Ольга, 2006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71640" y="525600"/>
            <a:ext cx="698508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6913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3456000" cy="3295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529080" cy="3413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116000" y="4292640"/>
            <a:ext cx="3024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232160" cy="4464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35686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4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ровоте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00480" y="2060640"/>
            <a:ext cx="40435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Артериаль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еноз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апилляр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1989000"/>
            <a:ext cx="3456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ткрыто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крыто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нутренне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907640" y="1484280"/>
            <a:ext cx="792360" cy="432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1413000"/>
            <a:ext cx="936720" cy="576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392200" cy="4746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723680" y="458640"/>
            <a:ext cx="625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Пальцевое прижатие артер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5832360" cy="1230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2303640" cy="2303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661840" y="189000"/>
            <a:ext cx="369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Наложение жгу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Основные правила наложения жгут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накладывать на голую кожу, на ран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накладывается: в середине плеча, в нижней трети голеностоп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ила - минимальная достаточная для остановки кровотеч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ерез полчаса проверить остановку кровотечения , если не остановилось - повторить налож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закрывать жгут одеждо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Запис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медленно доставить в лечебное учрежд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ждые 2 часа летом и 0,5ч - зимой проводить ослабление жгу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2935080" cy="4381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4768560" cy="3433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780000" y="2320920"/>
            <a:ext cx="5832360" cy="4032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952720" cy="2953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5148360" y="549360"/>
            <a:ext cx="2760480" cy="28479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484360" y="278136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7093080" y="4724280"/>
            <a:ext cx="1728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2490480" cy="3024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074480" y="811080"/>
            <a:ext cx="491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ерекись водоро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ибидил (хлоргексидина биглюконат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ирамист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Фурацилл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т.д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07040" y="33336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Мягкие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антисепт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219640" y="4292640"/>
            <a:ext cx="2997360" cy="23875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243800" y="393372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Жесткие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антисепт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39720" y="4581360"/>
            <a:ext cx="159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пир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Йод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«Зелёнка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3924360" y="5373720"/>
            <a:ext cx="148896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11280" y="1155960"/>
            <a:ext cx="7632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Не накладывать на голую кожу (нужны мягкие прокладки), на ран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Оставить травмированное место в том положении, в котором его нашли ег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Шина должна перекрывать как минимум два соседних с переломом суста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Лучше накладывать по бокам конечности, менее удобно – по передней или задней сторонам конеч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ачественная фиксац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Шина не должна нарушать кровообращ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16440" y="473040"/>
            <a:ext cx="59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Основные правила наложения ши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3944880" cy="19508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4537080" cy="39765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853560" y="620640"/>
            <a:ext cx="19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Верх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коне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759280" cy="2747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627280" y="692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Перелом ключиц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168720" cy="30988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808200" y="47628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Нижние коне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067280" y="1844640"/>
            <a:ext cx="1712880" cy="3963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6516720" y="2997360"/>
            <a:ext cx="2195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40872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8172720" cy="19684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833280" y="765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Кости таз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675640" cy="17398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634200" y="62064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Позвоночник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427640" y="4149720"/>
            <a:ext cx="17762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ешк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себе (один человек, несколько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носилках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яг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олужест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жест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2247840" y="476280"/>
            <a:ext cx="44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Способы транспортиров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Частные случаи травм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120000" cy="32526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ерелом позвоночника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Черепно-мозговая трав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826000" cy="31593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283356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равма грудной клет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771640" y="1844640"/>
            <a:ext cx="35974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спирация инородного те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39640" y="1797120"/>
            <a:ext cx="82803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«Острый живот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пасность – кровотечение, перитони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мощь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хол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гол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 поко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озможно применение антибиот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езболивание не показано, но..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03280" y="428760"/>
            <a:ext cx="640872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Носовое кровоте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3567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нородное тело в глаз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1714320" cy="20764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2238120" cy="17812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6012000" y="1700280"/>
            <a:ext cx="2238120" cy="19238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1835280" y="4221000"/>
            <a:ext cx="2238120" cy="18576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5508720" y="4221000"/>
            <a:ext cx="17143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Ушибы и растяж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232000" cy="14414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948360" y="134136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90760" y="11970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. Хол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047560" y="12682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. НПВ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0920" y="3716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. 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940360" y="4653000"/>
            <a:ext cx="2592360" cy="15429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924160" y="386064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4. Разогревающ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 через 1-3 суток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539640" y="4292640"/>
            <a:ext cx="1905120" cy="13334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2916360" y="3645000"/>
            <a:ext cx="1728720" cy="14605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2195640" y="5013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рез пальц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325600" cy="15415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5724360" y="1916280"/>
            <a:ext cx="2286000" cy="163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3492360" y="4508640"/>
            <a:ext cx="23814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тёртости и мозол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2449800" cy="13064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37040" y="1211400"/>
            <a:ext cx="43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. Внимание к обуви, носкам и нога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3880" y="337176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. Своевременное использование пластыр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2640" y="5157720"/>
            <a:ext cx="47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. В походе практически не лечатся, но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стерильная повяз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анозаживляюще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протыкать или нет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6948360" y="1413000"/>
            <a:ext cx="1390680" cy="19047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1376280" cy="15051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1116000" y="3860640"/>
            <a:ext cx="2448000" cy="11829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4572000" y="3789360"/>
            <a:ext cx="1368360" cy="10350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6"/>
          <a:stretch/>
        </p:blipFill>
        <p:spPr>
          <a:xfrm>
            <a:off x="6659640" y="5445000"/>
            <a:ext cx="736560" cy="12240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7"/>
          <a:stretch/>
        </p:blipFill>
        <p:spPr>
          <a:xfrm>
            <a:off x="4932360" y="558972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Реализация принципа «Не навреди!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передвигайте пострадавшего с серьезными травмам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давайте пищу и воду, если не уверен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делайте действий, перекрывающих дыхательные пути (не кладите плашмя, не подкладывайте под голову подушку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ердечно-лёгочная реанимац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Обеспечение проходимости дыхательных путе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2 вдох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рекардиальный удар 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дох:надавливание на грудную клетку = 2:15 (один реаниматор) или 1:5 (два реаниматора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контроль эффективност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54723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6900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19640" y="2421000"/>
            <a:ext cx="31366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2:57:39Z</dcterms:created>
  <dc:creator>Добрушина</dc:creator>
  <dc:description/>
  <dc:language>en-US</dc:language>
  <cp:lastModifiedBy>Добрушина</cp:lastModifiedBy>
  <dcterms:modified xsi:type="dcterms:W3CDTF">2006-06-05T23:20:36Z</dcterms:modified>
  <cp:revision>36</cp:revision>
  <dc:subject/>
  <dc:title>Слайд 1</dc:title>
</cp:coreProperties>
</file>